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BF5-E70E-4B56-A596-EA19CFCE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222-11F0-41D4-9A95-13466005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D99-DC1A-493E-84CB-0931C847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838-2A8B-407B-9BDF-E31AA670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C58-90A3-4035-AEC2-3F8490B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DB7-8FB2-4B6A-A04A-97CACA94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D70-D54B-480A-A1FD-57FC7F0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493-787E-4D48-B1CB-9564CE9E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D03-7A4E-4764-86A9-20ABD71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C81-8B28-4D50-88D3-A0D521C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B05-3E61-4298-97B3-4401FE2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896-0251-42E1-9526-7ECABBE9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73A-AAF7-4E42-96AB-C5920BD50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uld you write a poem about these imag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16761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migh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ction words would fit these im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ecti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v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help you tell about these im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possible tit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mak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 ly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1244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you think these pictures were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181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rayon, colored penc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, canvas, w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arge do they se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think it took the artist to create each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 artist finishing them all at once or working over many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like to try making an artwork like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4043520"/>
            <a:ext cx="3047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 about the art and the arti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4960" y="1218960"/>
            <a:ext cx="5181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titled (Face Surrounded by Angels, Birds  and White Winged Creatu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innie Evans (American, 1892 -198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 Graphite, wax crayon, and gold oil paint on pa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 196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Minnie Evans is a self-taught artist who lived in Wilmington, North Carol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titled (Three Faces in Floral Desig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innie Evans (American 1892 -198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Graphite, wax crayon, oil paint, collage on canvas boa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 196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Minnie Evans created many of her artworks while working as a gatekeeper at Airlie Gardens in Wilmington, North Carol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047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on Fo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181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:  author’s purpose, poetry, descriptive language, parts of speech, reality and fantasy, compare and contr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: symbols, my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s:  symmetry,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rt:  composition, shape, color, space, folk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649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see in this artwork?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very carefully at all the det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600" y="1523880"/>
            <a:ext cx="5486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only part of something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made by combining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things arranged?  Is the arrangement like real life or is it more like a pattern or a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5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artist saying in this work?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main ide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092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im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tell a story 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the setting of this artwor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or what a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artwork?  Are they ordinary people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lse would we find these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90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you notice about patterns, shapes, symmetry, repetition and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ape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of symme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lo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shapes or are they crow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040" y="1600200"/>
            <a:ext cx="31734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makin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work of ar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72464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giving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t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ie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ing us how to do 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purpose might sh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357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e a few minutes and examine this image carefully.  Pay attention to the detail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arrangement of the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195640"/>
            <a:ext cx="37339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w, let’s look at the two artworks toge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ds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(the way the image is arr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lative size of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3124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same in both artwork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think the artist is sending with these artwor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he artist feels about nature by looking at the natural images in her pictur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artworks more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ore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1244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iga M</cp:lastModifiedBy>
  <dcterms:modified xsi:type="dcterms:W3CDTF">2006-10-20T15:52:4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1674122534</vt:r8>
  </property>
  <property fmtid="{D5CDD505-2E9C-101B-9397-08002B2CF9AE}" pid="4" name="_AuthorEmail">
    <vt:lpwstr>Georgia@cameronartmuseum.com</vt:lpwstr>
  </property>
  <property fmtid="{D5CDD505-2E9C-101B-9397-08002B2CF9AE}" pid="5" name="_AuthorEmailDisplayName">
    <vt:lpwstr>Georgia</vt:lpwstr>
  </property>
  <property fmtid="{D5CDD505-2E9C-101B-9397-08002B2CF9AE}" pid="6" name="_EmailSubject">
    <vt:lpwstr>lesson plans</vt:lpwstr>
  </property>
</Properties>
</file>